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D0D9-621D-433C-B7E1-A40A797C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s of thank you notes, refer to Page 80 of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dvanced Techniques for Work Search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berta Employment Immigration and Indu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0B38-DE66-46F3-9FCB-143CEBFCDF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ind students that screening starts BEFORE the interview!  Ex. If an employer has seen you around town, if you have spoke on the phone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94D-C10B-4DE1-86E9-C529A368AA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Large companies often hire for different positions all at once, they may feel you are suitable for a position you did not apply f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age 87 from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dvanced Techniques for Work Search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lberta Employment Immigration and Indust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an extensive list of questions you may want to ask when arranging for an inter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4545-90D7-4177-BA65-33C84C2951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024-D3AD-413C-987A-1DFDAB48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F8B-CCD4-4984-94A9-DAEE1874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C52-A949-42F0-817F-CFE77CCC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A83-885F-4E28-B398-9142F2A2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A324-260A-418B-AE28-70AAADD0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890C-F0F3-4897-ABE4-4462FE4C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E29A-A7FA-40F1-993E-60F0FE2D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A396-3914-44CA-A15A-40CC4ACA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8FB3-9D6E-4477-88DF-119FEF11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C05D-83C9-424F-BD7D-EB0E404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5E44-D232-450A-8598-E432D845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98F-2342-48FC-9DDB-B6A172DA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FA11-2E44-4F5A-8341-6AD137B8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FB3B-E7DA-4437-AB57-9156B92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E48C-878D-4E00-8DE8-975DCE48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7F52-1A5A-4711-AD83-3EDB32FB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A610-FF9E-4583-AB25-31EBE7D3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A1498-AD02-4001-A027-2F49170A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2B0E-3865-49DC-B31E-117E6442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4A0F-C872-4173-88E3-B25D0F5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3C86-A346-4B0B-A230-F6DDAE23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11B2-454F-41F4-9F70-64FA1A5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2C1-80AD-4DE8-9145-1E63517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D002-F0AC-4746-91BD-F4F6EE2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AFED-15D4-4276-96B6-44090EA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FE5E2-A44C-4E5F-8332-1697212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4A0E8-2E46-48CB-A45A-17C7A3F3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8587-8CBF-42BF-A30B-9C8E3B18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C20F-E92F-4E04-9A2C-505500E3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244A2-5B7D-4FCA-A388-F2B36EA5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2C6E-8C3F-428C-9E7B-A15E620F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2472-EBC1-4CAF-9B44-05F7B0D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B198C-68AD-42D3-B321-18535A81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AC4-FACF-4105-A9BC-09161328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07686-9BF4-4989-8537-1193B45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65D6F-8497-4C2A-ADE9-2B6CE547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306AE-4619-40E6-80ED-61D925BB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0B17-AF33-4250-BC6F-F71DCF03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6A76A-69CB-4232-B97F-C1974ED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1C3F3-F6BE-4B20-BAC9-A61A8FF1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03001-BA17-40F5-8960-9EDB9D3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45C2-797E-49C0-8976-C101CC7B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ADB7-9BD4-48E7-90C5-14ED24C3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05135-8EE8-4684-94AC-049BC90F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919-6680-48F1-AC50-3C06621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896F5-956D-42E7-9F8D-04E94822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0071-AF22-4856-B852-E109BB86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115A4-785D-4182-AE68-E9A177FB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F6C5-D928-4CA1-A9FD-D5B9DACE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D3EB-BE40-46BC-8324-24A7FD7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6C716-7F6C-4347-8698-6627752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66B5D-7D2F-43F8-B90D-18E789B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AA23-A871-482C-80B3-D87DCA6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02AE3-575E-44FC-8A53-AEB1B426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D97C5-A501-4790-8D14-D2E717F5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696C-4AB6-4679-8A93-FC797522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B636-8E8E-4929-BCBA-7C5DDB3B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34D2-2D83-4348-8464-683F5B1F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14968-E5FB-4FA8-8238-6CF9578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AD41-2E68-4216-832F-48EA8D6C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9A74-88D7-4D06-924B-F05777A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3C93-8263-4E41-B196-5F05A67C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8A90-60BC-4159-B63B-EDF1E9E0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3530-D458-4460-A910-B1D5C3C4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BE22-11EC-44F3-9895-CFE948A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99CD-F291-4DB9-B9B2-CD6E69E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AFA-68C4-4CC8-85C2-40C4AA81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3DB4F-999E-448E-98E6-C7EE58B7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0B8EF-DE43-4229-9A56-79B4457D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FB3E3-8AAD-44FD-9BE2-9A996A8F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195EB-45B8-4240-8B2E-D5281031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42980-D08E-4DBA-8E48-D04961EF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F5785-A4CD-4D62-B271-19C072D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2DF35-12DC-4FEC-8D59-5481ADEA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77D9-4F87-4733-83EF-C858AAA7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594A-E317-443C-8E9E-D9AFFA3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0550-400C-46F2-A2BA-CF2329FD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D933-45CF-4D7D-BD99-EB6CA642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120F-FE5D-46EC-AB32-181E64F0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125B3-4253-4980-ADF4-02F79FE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6FBD5-8EF0-4B50-A54D-5D5904FD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C22E-603F-4529-B454-8797DC0C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4AA0-2BF4-4B32-82E2-510011B1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A3A-2F87-426F-8D3F-587ECB88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02E-00A1-4D1F-9CDB-F805B7A41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4CEE-DE07-4DF8-857C-A5255C1D2A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F720-7305-4D8A-B9B3-D29770394E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8E9-62ED-4873-96FC-3B59F4B05C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651B-B1B4-4C85-9687-DC6B2F96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9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50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859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a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1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59868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0c0c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a121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232D-FBA2-4151-890E-D63C65A44C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2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2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2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5592-0AC4-4AFD-9F19-0F73291DFC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view Skills Buil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ly Johns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 Alberta Career Pr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Central Alberta Career Prep LOGO.JPG"/>
          <p:cNvPicPr/>
          <p:nvPr/>
        </p:nvPicPr>
        <p:blipFill>
          <a:blip r:embed="rId1"/>
          <a:stretch/>
        </p:blipFill>
        <p:spPr>
          <a:xfrm>
            <a:off x="6934320" y="5181480"/>
            <a:ext cx="19224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hould you ask about money?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mportant to ask the question in a way that shows the employer that wages are not your greatest intere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entry-level pay for a job like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pay range for this posi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Picture 6" descr="green money sign"/>
          <p:cNvPicPr/>
          <p:nvPr/>
        </p:nvPicPr>
        <p:blipFill>
          <a:blip r:embed="rId1"/>
          <a:stretch/>
        </p:blipFill>
        <p:spPr>
          <a:xfrm rot="20179800">
            <a:off x="533520" y="5029200"/>
            <a:ext cx="1249200" cy="1293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Money Sign"/>
          <p:cNvPicPr/>
          <p:nvPr/>
        </p:nvPicPr>
        <p:blipFill>
          <a:blip r:embed="rId2"/>
          <a:stretch/>
        </p:blipFill>
        <p:spPr>
          <a:xfrm>
            <a:off x="6248520" y="2895480"/>
            <a:ext cx="2079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0c0c0"/>
                </a:solidFill>
                <a:latin typeface="Arial"/>
              </a:rPr>
              <a:t>Why is it important for us to know our skills and abilities?</a:t>
            </a:r>
            <a:endParaRPr b="1" lang="en-US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n we know our skills and abilities we are able to </a:t>
            </a:r>
            <a:r>
              <a:rPr b="0" i="1" lang="en-US" sz="2200" spc="-1" strike="noStrike">
                <a:solidFill>
                  <a:srgbClr val="4f747b"/>
                </a:solidFill>
                <a:latin typeface="Arial"/>
              </a:rPr>
              <a:t>speak confident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4f747b"/>
                </a:solidFill>
                <a:latin typeface="Arial"/>
              </a:rPr>
              <a:t>in detai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o the employer knows what we have to off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3b575c"/>
                </a:solidFill>
                <a:latin typeface="Arial"/>
              </a:rPr>
              <a:t>best way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demonstrate your skills is to tell a brief story about your skill and the way you have used it in the past, then relate the skill to the potential jo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0" descr="scared man"/>
          <p:cNvPicPr/>
          <p:nvPr/>
        </p:nvPicPr>
        <p:blipFill>
          <a:blip r:embed="rId1"/>
          <a:stretch/>
        </p:blipFill>
        <p:spPr>
          <a:xfrm rot="1123800">
            <a:off x="5943600" y="2666520"/>
            <a:ext cx="1908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uring football practice, I have to keep daily attendance and prepare equipment prior to practice.  My coaches have described me as reliable, independent, and as a person who takes initiati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ff"/>
                </a:solidFill>
                <a:latin typeface="Arial"/>
              </a:rPr>
              <a:t>I am responsible for the daily feeding and care of four horses.  This requires that I be outside working in all weather without being asked.  This demonstrates my ability to be motivated, punctual, and responsible which you have indicated are all important to this 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 was a babysitter for a family with 3 children.  I prepared meals and did general house clean up.  I babysat for this family for 2 yrs; the family has given me a reference letter that describes me as responsible, caring, and tidy.  This letter is in my portfolio if you would like to read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85800" y="22860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457200" y="380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 of the hat practice questio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one challenging question you may be asked at an interview; write it on a small piece of pap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a piece of paper; read the question to your classmates and then answer it to the best of your 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lass will have the opportunity to add to other ways the question could be answe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ame Sho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groups of students, 3 individual jud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ch group will have a position they are applying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layground supervis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st food restaurant work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olf course maintenance work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rm han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air salon assista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rocery carry-out pers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80880" y="41144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the best answer to the 3 questions based on the position you are applying f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5" descr="scared man"/>
          <p:cNvPicPr/>
          <p:nvPr/>
        </p:nvPicPr>
        <p:blipFill>
          <a:blip r:embed="rId1"/>
          <a:stretch/>
        </p:blipFill>
        <p:spPr>
          <a:xfrm>
            <a:off x="4114800" y="5029200"/>
            <a:ext cx="103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rview Da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the “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red flag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that employers watch for?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2" name="Picture 5" descr="red flag"/>
          <p:cNvPicPr/>
          <p:nvPr/>
        </p:nvPicPr>
        <p:blipFill>
          <a:blip r:embed="rId1"/>
          <a:stretch/>
        </p:blipFill>
        <p:spPr>
          <a:xfrm rot="19785600">
            <a:off x="1752120" y="3428640"/>
            <a:ext cx="1351080" cy="1685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waving finger"/>
          <p:cNvPicPr/>
          <p:nvPr/>
        </p:nvPicPr>
        <p:blipFill>
          <a:blip r:embed="rId2"/>
          <a:stretch/>
        </p:blipFill>
        <p:spPr>
          <a:xfrm rot="1618200">
            <a:off x="5867280" y="3809520"/>
            <a:ext cx="15004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do these “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red flags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” say to an employe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52280" y="1523880"/>
            <a:ext cx="434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got your resume/ portfol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tidy hai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verload of jewelry, piercings/tatto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ell of cigarette smo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 pos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or speaking skills, slander, profa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ponding with only yes and no answ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aking poorly of previous emplo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lking too much about topics not relevant to the ques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aring a ball cap or sunglasses in the intervi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796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ck of enthusiasm or confid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demonstrating where you can add v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t prepared for basic interview ques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listen well, cuts interviewer of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ves without asking any ques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follow up with a thank you car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firm handsh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eye conta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ressed in street clothes- crumpled, dirty, shoes untied or dir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getting to bring 3 re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llow U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d a thank you note or email, thanking them for their time and consider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any information you may have forgotten or clarify a specific interview ques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do not get the position, call and ask for constructive feedba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ember that each interview is a valuable experienc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8" descr="email"/>
          <p:cNvPicPr/>
          <p:nvPr/>
        </p:nvPicPr>
        <p:blipFill>
          <a:blip r:embed="rId1"/>
          <a:stretch/>
        </p:blipFill>
        <p:spPr>
          <a:xfrm rot="927600">
            <a:off x="7010280" y="2057040"/>
            <a:ext cx="1303560" cy="1447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thank you note"/>
          <p:cNvPicPr/>
          <p:nvPr/>
        </p:nvPicPr>
        <p:blipFill>
          <a:blip r:embed="rId2"/>
          <a:stretch/>
        </p:blipFill>
        <p:spPr>
          <a:xfrm rot="1153200">
            <a:off x="6533640" y="4871880"/>
            <a:ext cx="1638360" cy="127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red phone"/>
          <p:cNvPicPr/>
          <p:nvPr/>
        </p:nvPicPr>
        <p:blipFill>
          <a:blip r:embed="rId3"/>
          <a:stretch/>
        </p:blipFill>
        <p:spPr>
          <a:xfrm rot="20179200">
            <a:off x="4648320" y="312372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ings to rememb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view i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WO-W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way to get the best match is f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ach par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interview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views require you to plan an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acti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lling your skills and 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is the purpose of an interview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candidates and employers to meet each o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eates a place for asking ques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termines if an appropriate working match is m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rves to determine if a job applicant meets the job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hat type of interviews are out th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752480"/>
            <a:ext cx="3357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hone Interview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ld be used to initiate cont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uld be used if there is a large distance between you and the emplo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19280" y="25905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-pers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-on-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n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Picture 10" descr="red phone"/>
          <p:cNvPicPr/>
          <p:nvPr/>
        </p:nvPicPr>
        <p:blipFill>
          <a:blip r:embed="rId1"/>
          <a:stretch/>
        </p:blipFill>
        <p:spPr>
          <a:xfrm rot="916800">
            <a:off x="3580920" y="220968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en the employer calls to arrange an interview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e/time/pl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o is doing the interview (get their names)- is it a panel or one-on-one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at you have a portfolio and would like to bring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rm that the interview is for the job you applied f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k for a job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43434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do your research before the interview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y researching you are demonstrating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organ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preparation skill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 It will build your confidence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ou will want to know abou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you will be do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ompan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5f5f5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xpectations of the job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7" descr="BD18210_"/>
          <p:cNvPicPr/>
          <p:nvPr/>
        </p:nvPicPr>
        <p:blipFill>
          <a:blip r:embed="rId1"/>
          <a:stretch/>
        </p:blipFill>
        <p:spPr>
          <a:xfrm rot="1309200">
            <a:off x="5498640" y="1757520"/>
            <a:ext cx="225576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may you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123320" cy="110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s will ask questions about your PAST, PRESENT, &amp; the FU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66680" y="2819160"/>
            <a:ext cx="69343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, experiences and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availability, abilities, certifications and ski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you handle the responsibilities of the position? Futur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may you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423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 me about yoursel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your last jo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did you leave your last jo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your favorite school subject? What is your least favorit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your 3 greatest strength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do you consider to be an area for developmen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have you demonstrated responsibility in your pas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your interests outside of schoo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are you interested in this posi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3 words best describe y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kind of work environment would you like to work in?  How can you ensure your workplace is this wa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a time when you demonstrated initiativ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a time when you handled a situation poorly; what did you learn? How could you act differently next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should I hire y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CANNOT be ask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02" name="Picture 10" descr="gay married couple"/>
          <p:cNvPicPr/>
          <p:nvPr/>
        </p:nvPicPr>
        <p:blipFill>
          <a:blip r:embed="rId1"/>
          <a:stretch/>
        </p:blipFill>
        <p:spPr>
          <a:xfrm rot="1382400">
            <a:off x="7238520" y="2742840"/>
            <a:ext cx="1432080" cy="152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hindu woman"/>
          <p:cNvPicPr/>
          <p:nvPr/>
        </p:nvPicPr>
        <p:blipFill>
          <a:blip r:embed="rId2"/>
          <a:stretch/>
        </p:blipFill>
        <p:spPr>
          <a:xfrm rot="20415000">
            <a:off x="5866920" y="2057400"/>
            <a:ext cx="943200" cy="1409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handcuffed hands"/>
          <p:cNvPicPr/>
          <p:nvPr/>
        </p:nvPicPr>
        <p:blipFill>
          <a:blip r:embed="rId3"/>
          <a:stretch/>
        </p:blipFill>
        <p:spPr>
          <a:xfrm rot="20489400">
            <a:off x="6400800" y="5105520"/>
            <a:ext cx="1670040" cy="10508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9"/>
          <p:cNvSpPr/>
          <p:nvPr/>
        </p:nvSpPr>
        <p:spPr>
          <a:xfrm>
            <a:off x="609480" y="21337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thing relating to religion, marital status, sexual preference, ethnic origin, age, gender, weight, criminal record, disability, and other health issues are OFF LIMIT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17" descr="overweight person"/>
          <p:cNvPicPr/>
          <p:nvPr/>
        </p:nvPicPr>
        <p:blipFill>
          <a:blip r:embed="rId4"/>
          <a:stretch/>
        </p:blipFill>
        <p:spPr>
          <a:xfrm>
            <a:off x="5410080" y="3962520"/>
            <a:ext cx="935280" cy="1238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9" descr="wedding hands"/>
          <p:cNvPicPr/>
          <p:nvPr/>
        </p:nvPicPr>
        <p:blipFill>
          <a:blip r:embed="rId5"/>
          <a:stretch/>
        </p:blipFill>
        <p:spPr>
          <a:xfrm rot="687600">
            <a:off x="1981080" y="4572000"/>
            <a:ext cx="1495440" cy="809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0" descr="world religions"/>
          <p:cNvPicPr/>
          <p:nvPr/>
        </p:nvPicPr>
        <p:blipFill>
          <a:blip r:embed="rId6"/>
          <a:stretch/>
        </p:blipFill>
        <p:spPr>
          <a:xfrm rot="20886000">
            <a:off x="304920" y="5028840"/>
            <a:ext cx="1511280" cy="1523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1" descr="young black person"/>
          <p:cNvPicPr/>
          <p:nvPr/>
        </p:nvPicPr>
        <p:blipFill>
          <a:blip r:embed="rId7"/>
          <a:stretch/>
        </p:blipFill>
        <p:spPr>
          <a:xfrm rot="20210400">
            <a:off x="3657240" y="53337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2" descr="male female symbols"/>
          <p:cNvPicPr/>
          <p:nvPr/>
        </p:nvPicPr>
        <p:blipFill>
          <a:blip r:embed="rId8"/>
          <a:stretch/>
        </p:blipFill>
        <p:spPr>
          <a:xfrm>
            <a:off x="7467480" y="1143000"/>
            <a:ext cx="11718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questions could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you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ask in your interview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some of the responsibilities of this posi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you hirin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busiest times of busin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I make a difference to this busine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hours of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technology changing this occup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training do you offer your employ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dvancement opportunities within the organ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does this company expect to be in 5 yea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expected dres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2:14:27Z</dcterms:created>
  <dc:creator>Keely</dc:creator>
  <dc:description/>
  <dc:language>en-US</dc:language>
  <cp:lastModifiedBy>Janet S.</cp:lastModifiedBy>
  <dcterms:modified xsi:type="dcterms:W3CDTF">2009-05-01T17:48:08Z</dcterms:modified>
  <cp:revision>62</cp:revision>
  <dc:subject/>
  <dc:title>Interview Skills Building</dc:title>
</cp:coreProperties>
</file>